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55B03-0839-457A-9717-CE9F2C743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98F17-E465-465E-A6AE-D3BDCFD81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2781F-A42C-450B-B61C-3FD7326F6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F4C60-8F04-4B4D-97C1-D1960C788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4FF3E-4EFE-4763-BB71-00632EBB7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91D57-DAAB-47AE-9097-737D11DEE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BA428-DE32-41C4-A130-2D230212A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788BC-55F0-48C2-BDE5-7E8334D11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C4C76-B1B9-4594-B913-FFC94F2CB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BA6EA-090D-47AC-A2A1-A3302A369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7FD64-FF24-494D-8C5A-928E8B883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B1270-93A7-4CB6-9E8A-BD71DCBD5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325AE-2F35-4752-A707-85B7387D4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B944A-9F98-44E9-950D-B6769FFFC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2B528-7E1C-4B28-A6F6-11373CB3A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7544A-7A88-4829-BF06-1F4C4BFD0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465DF-1A01-4C21-B139-B057150FF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9C571-E5C6-47D6-893D-13E4BE88B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79D4A-E9BE-437C-8E9E-4B198E2EE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4BDF0-1D01-4ACC-84D3-571A1F315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4CAF6-7A20-4F8D-BFBE-6D84157C6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4F53E-9271-4FC3-A428-C870ABA9E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52909-5084-4F20-8A8C-162916018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B079B-4B32-4804-9908-EB81CF262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920" y="1636560"/>
            <a:ext cx="9148680" cy="4618080"/>
            <a:chOff x="-7920" y="1636560"/>
            <a:chExt cx="9148680" cy="4618080"/>
          </a:xfrm>
        </p:grpSpPr>
        <p:pic>
          <p:nvPicPr>
            <p:cNvPr id="1" name="ARTHSEPA" descr=""/>
            <p:cNvPicPr/>
            <p:nvPr/>
          </p:nvPicPr>
          <p:blipFill>
            <a:blip r:embed="rId3"/>
            <a:stretch/>
          </p:blipFill>
          <p:spPr>
            <a:xfrm>
              <a:off x="5997600" y="6180120"/>
              <a:ext cx="3143160" cy="7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Arthsepa" descr=""/>
            <p:cNvPicPr/>
            <p:nvPr/>
          </p:nvPicPr>
          <p:blipFill>
            <a:blip r:embed="rId4"/>
            <a:stretch/>
          </p:blipFill>
          <p:spPr>
            <a:xfrm>
              <a:off x="-7920" y="1636560"/>
              <a:ext cx="449568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10848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14580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57699-8755-42BE-AFF0-F7CAD5E0DE0D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9144000" cy="3365640"/>
            <a:chOff x="0" y="0"/>
            <a:chExt cx="9144000" cy="3365640"/>
          </a:xfrm>
        </p:grpSpPr>
        <p:pic>
          <p:nvPicPr>
            <p:cNvPr id="45" name="ARTBANNA" descr=""/>
            <p:cNvPicPr/>
            <p:nvPr/>
          </p:nvPicPr>
          <p:blipFill>
            <a:blip r:embed="rId3"/>
            <a:srcRect l="8126" t="0" r="0" b="0"/>
            <a:stretch/>
          </p:blipFill>
          <p:spPr>
            <a:xfrm>
              <a:off x="0" y="0"/>
              <a:ext cx="91440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Arthsepa" descr=""/>
            <p:cNvPicPr/>
            <p:nvPr/>
          </p:nvPicPr>
          <p:blipFill>
            <a:blip r:embed="rId4"/>
            <a:stretch/>
          </p:blipFill>
          <p:spPr>
            <a:xfrm>
              <a:off x="4267080" y="3268800"/>
              <a:ext cx="449604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35916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601956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125280" y="6361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79D78-8CE8-412E-8CD4-4D6A3570BA2C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Political Partie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685600" y="3492000"/>
            <a:ext cx="610236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Everything you wanted to know (but were afraid to ask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Wilson, Chapter 7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The “Odd” Democracy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Weak Party Identification (beyond the hardcore supporters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40% I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35% D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       25% R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Grass roots vs. party selection for post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Candidates run elections, not party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Candidates aren’t beholden to party for vote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Why the “oddness”?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ederalism (concentrate at local level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Regulated by state and federal law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Able to be their “own” person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Not connected with executive offic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Joining is not a hassl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Not a major factor in social settings (blame regional sports in the U.S.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oalitions not issu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0" y="1531800"/>
            <a:ext cx="9144000" cy="3689280"/>
            <a:chOff x="0" y="1531800"/>
            <a:chExt cx="9144000" cy="3689280"/>
          </a:xfrm>
        </p:grpSpPr>
        <p:sp>
          <p:nvSpPr>
            <p:cNvPr id="95" name=""/>
            <p:cNvSpPr/>
            <p:nvPr/>
          </p:nvSpPr>
          <p:spPr>
            <a:xfrm>
              <a:off x="0" y="1531800"/>
              <a:ext cx="56260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1531800"/>
              <a:ext cx="9144000" cy="368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  </a:t>
              </a:r>
              <a:r>
                <a:rPr b="0" lang="en-US" sz="23600" spc="-1" strike="noStrike">
                  <a:solidFill>
                    <a:srgbClr val="ffffcc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                                                                                  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560" y="7380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U.S. Political Partie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0" y="1531800"/>
            <a:ext cx="9144000" cy="3689280"/>
            <a:chOff x="0" y="1531800"/>
            <a:chExt cx="9144000" cy="3689280"/>
          </a:xfrm>
        </p:grpSpPr>
        <p:sp>
          <p:nvSpPr>
            <p:cNvPr id="99" name=""/>
            <p:cNvSpPr/>
            <p:nvPr/>
          </p:nvSpPr>
          <p:spPr>
            <a:xfrm>
              <a:off x="0" y="1531800"/>
              <a:ext cx="56260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0" y="1531800"/>
              <a:ext cx="9144000" cy="368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  </a:t>
              </a:r>
              <a:r>
                <a:rPr b="0" lang="en-US" sz="23600" spc="-1" strike="noStrike">
                  <a:solidFill>
                    <a:srgbClr val="ffffcc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                                                                                  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0" y="1531800"/>
            <a:ext cx="9144000" cy="3689280"/>
            <a:chOff x="0" y="1531800"/>
            <a:chExt cx="9144000" cy="3689280"/>
          </a:xfrm>
        </p:grpSpPr>
        <p:sp>
          <p:nvSpPr>
            <p:cNvPr id="102" name=""/>
            <p:cNvSpPr/>
            <p:nvPr/>
          </p:nvSpPr>
          <p:spPr>
            <a:xfrm>
              <a:off x="0" y="1531800"/>
              <a:ext cx="56260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0" y="1531800"/>
              <a:ext cx="9144000" cy="368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  </a:t>
              </a:r>
              <a:r>
                <a:rPr b="0" lang="en-US" sz="23600" spc="-1" strike="noStrike">
                  <a:solidFill>
                    <a:srgbClr val="ffffcc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                                                                                  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pic>
        <p:nvPicPr>
          <p:cNvPr id="104" name="T014293A" descr="Major U.S. Political Parties"/>
          <p:cNvPicPr/>
          <p:nvPr/>
        </p:nvPicPr>
        <p:blipFill>
          <a:blip r:embed="rId2"/>
          <a:stretch/>
        </p:blipFill>
        <p:spPr>
          <a:xfrm>
            <a:off x="0" y="838080"/>
            <a:ext cx="9144000" cy="53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Left or Right?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28320" y="1941480"/>
            <a:ext cx="402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cc"/>
                </a:solidFill>
                <a:uFillTx/>
                <a:latin typeface="Arial"/>
              </a:rPr>
              <a:t>Left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Federalist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Whig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Republican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Progressive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Democrat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08280" y="1941480"/>
            <a:ext cx="4028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cc"/>
                </a:solidFill>
                <a:uFillTx/>
                <a:latin typeface="Arial"/>
              </a:rPr>
              <a:t>Right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Anti-Federalist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Democratic-Republican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Democrat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Republican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Major Third Partie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28680" y="1828800"/>
            <a:ext cx="820872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Ideologica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Socialist Party, Communist Party, Green Party, Libertarian Party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One-issu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Free-soil, “Know-Nothing”, Prohibition, Woman’s Party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Economic protest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Populist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Factiona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Progressives, Dixiecrats, Reform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Eras in American History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nding (1789 – 1824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Federalists vs. Anti-Federalists/Dem-Rep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Controversy:  Federalism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Jacksonian Period (1824 – 1840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Democrat vs. Whig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Controversy:  Jackson himself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Eras in American History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tionalism (1840 – 1876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Democrats vs. Whigs (and Republicans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Controversy:  Slavery and Reconstruction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Era of Reform (1876 – present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Democrats vs. Republican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Controversy:  Government in economy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Realignment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28680" y="1828800"/>
            <a:ext cx="820872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1800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First peaceful transition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1828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First “heated” election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1860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Lead to Civil War based around civil right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1896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Decided social roles of the parties re: busines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1932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Decided social roles of the parties re: the people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6T14:58:32Z</dcterms:created>
  <dc:creator>Brent J. Freccia</dc:creator>
  <dc:description/>
  <dc:language>en-US</dc:language>
  <cp:lastModifiedBy>Brent J. Freccia</cp:lastModifiedBy>
  <dcterms:modified xsi:type="dcterms:W3CDTF">2008-10-06T18:36:01Z</dcterms:modified>
  <cp:revision>2</cp:revision>
  <dc:subject/>
  <dc:title>Political Parties</dc:title>
</cp:coreProperties>
</file>